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389-6150-42C5-9A9A-2894C4E0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087-FAE1-4DA2-BD14-BC20871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3E6-B71A-4C8A-83CD-5642897D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76A-B2A4-425D-A721-E756D80B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2B16-C9B9-42C5-A020-15483366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C59-A3D7-40B2-8107-4D9CCCB2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CA7-2E68-457B-9CDC-6F49C8AC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ABDE-F048-4877-8C84-2B1F33F5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4D7D-E602-4209-9169-5B48C371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BD61-82DC-4C1F-916D-6B620EF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CC1-9149-4614-9611-73AB74B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D64-F5CE-4813-B66B-29559923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CDD5-CFA2-4EF5-8755-DE01B940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8662-93B9-40EC-8715-0918625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79CF-530F-46B2-BE85-F3D4E876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61A-F2F7-4C6A-9E74-0ADD03BC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930D-3A9E-45DF-8F49-E6E4DF00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D31A-19E4-42F4-A950-8BFB439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7138-32FD-4D93-AEFF-B5874CC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702E-A3CE-40C7-96ED-EE848D73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6569-7255-459F-AF07-D63A99A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AD1D-2769-4920-8A09-34E602CD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35E-6FA4-465D-AFC0-387FA1BD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0569-43DD-4660-B2EB-E9BF07CC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2900-CB90-47CE-96EB-6DBA859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3F3E-3897-4104-B49D-63511524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24A2-E5D9-4D5E-BC41-72FE3BE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E121-76B5-4C5C-B46A-57F8845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6A74-1F2C-43A9-AEDE-2AA72306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CD52-DFE8-472F-AC88-AA28C57C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5BB78-4215-4084-BACF-C5D4AAF4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C8F5-B538-4ABF-9352-5333DFC5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792B5-3602-42B0-976D-E3F643D5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C79-7E9E-4E30-B5CE-1158454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8C4A-5C6E-42F5-A376-0361FCE2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85C4-EBD7-4CEA-A880-3B8F41E9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A2F8-4A7E-4408-B63A-C343DA8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050A-EFF9-44D1-B128-0B580143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3CB4-BF01-49EC-A06F-3CEC084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9870-CB79-4E20-B935-C6709A5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6F1A-B650-47DA-92A7-95DD09A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D558-121A-4C03-849A-D792DD4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BE62-4676-4B71-9545-5DD62298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487-3044-4305-8AAD-84C5661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15C-F5E0-476C-AD62-537DECEA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994-1BBC-47C4-98FD-6B73EA81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1B1-43D8-4689-BC05-B92311D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EFF-86C1-4D07-828C-F80C2A9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DD8-6C66-4657-82BC-0C2FDB9661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powerpointTempla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1EB-CB88-488A-8944-5B69FDAE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F1C4-A3B2-4757-B9A6-CB624166E1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6 www.brainybett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8B2-A847-4521-9783-7CF368276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C97-242D-4659-A752-6FD1A6ED8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FBAD-9329-4A87-ADBA-7C6BCA6DE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Andy"/>
              </a:rPr>
              <a:t>Curriculum</a:t>
            </a:r>
            <a:br>
              <a:rPr sz="7200"/>
            </a:br>
            <a:r>
              <a:rPr b="0" lang="en-US" sz="7200" spc="-1" strike="noStrike">
                <a:solidFill>
                  <a:srgbClr val="7030a0"/>
                </a:solidFill>
                <a:latin typeface="Andy"/>
              </a:rPr>
              <a:t>Preview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Shiela Mae S. Icalina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Grade IV-Rub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ndy"/>
              </a:rPr>
              <a:t>SY 2011-2012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ndy"/>
              </a:rPr>
              <a:t>MATHEMATIC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Basic Operation –MDAS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RACTIONS, DECIMALS AND PERCENTS.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CHARTING AND GRAPHING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0052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y"/>
              </a:rPr>
              <a:t>LANGUAGE ART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33526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ntence Construction Development 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GRAMMAR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Figures of Speech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899320" y="2133720"/>
            <a:ext cx="1873080" cy="3101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ndy"/>
              </a:rPr>
              <a:t>SCIENCE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WEATHER AND  CLIMATE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624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ndy"/>
              </a:rPr>
              <a:t>TYPES OF CLOUDS</a:t>
            </a:r>
            <a:endParaRPr b="0" lang="en-US" sz="25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OLAR SYSTEM AND SPACE SCIENCE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78144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DISCIPLINE IS A MUST TO OBTAIN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438280" y="2290680"/>
            <a:ext cx="4648320" cy="36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ndy"/>
              </a:rPr>
              <a:t>I am looking forward to teach you </a:t>
            </a:r>
            <a:br>
              <a:rPr sz="2800"/>
            </a:br>
            <a:r>
              <a:rPr b="0" lang="en-US" sz="2800" spc="-1" strike="noStrike">
                <a:solidFill>
                  <a:srgbClr val="00b050"/>
                </a:solidFill>
                <a:latin typeface="Andy"/>
              </a:rPr>
              <a:t>in this school year</a:t>
            </a:r>
            <a:endParaRPr b="0" lang="en-US" sz="28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2840-0179-4FA5-B7AD-435C2D1C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4314600" cy="22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1:52Z</dcterms:created>
  <dc:creator>Khuram</dc:creator>
  <dc:description/>
  <dc:language>en-US</dc:language>
  <cp:lastModifiedBy>pc</cp:lastModifiedBy>
  <dcterms:modified xsi:type="dcterms:W3CDTF">2011-10-09T11:43:05Z</dcterms:modified>
  <cp:revision>12</cp:revision>
  <dc:subject/>
  <dc:title>Back to School 2009</dc:title>
</cp:coreProperties>
</file>